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AAF63-9960-43EB-B52F-932CF4A26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20B8C-B099-4274-AD1E-55C69D566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E3DCB-DDB9-48D6-AEA1-F116B02A9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D8D01-5636-481B-9855-906C52D28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B1D2E-9D8D-4F8C-A13C-A8213D279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C300A-C91F-40B1-BD0C-B0FEF6DCA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1960B-4F1C-456C-A087-DEFE38547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C12FC-9C6B-4B37-A55D-66228D4E3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B5D01-BBA3-4406-8F76-55FC3C0B2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A6A78-6065-4CCC-BE35-8968EA2D7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AED75-7D05-4F17-AA58-CA09224E0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4F309-FB45-4892-A1A1-196D9F951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7606-A86F-43F8-9B7F-5EB3FEA013D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692280"/>
            <a:ext cx="903600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encement of New Business</a:t>
            </a:r>
            <a:endParaRPr b="0" lang="en-US" sz="4400" spc="-1" strike="noStrike">
              <a:solidFill>
                <a:srgbClr val="000000"/>
              </a:solidFill>
              <a:latin typeface="Arial"/>
            </a:endParaRPr>
          </a:p>
        </p:txBody>
      </p:sp>
      <p:sp>
        <p:nvSpPr>
          <p:cNvPr id="42" name="Rectangle 157"/>
          <p:cNvSpPr/>
          <p:nvPr/>
        </p:nvSpPr>
        <p:spPr>
          <a:xfrm>
            <a:off x="1619280" y="1844640"/>
            <a:ext cx="612144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00"/>
                </a:solidFill>
                <a:uFillTx/>
                <a:latin typeface="Arial"/>
              </a:rPr>
              <a:t>6. KNOWLEDGE OF THE MARKET</a:t>
            </a:r>
            <a:endParaRPr b="0" lang="en-US" sz="3600" spc="-1" strike="noStrike">
              <a:solidFill>
                <a:srgbClr val="000000"/>
              </a:solidFill>
              <a:latin typeface="Arial"/>
            </a:endParaRPr>
          </a:p>
        </p:txBody>
      </p:sp>
      <p:sp>
        <p:nvSpPr>
          <p:cNvPr id="59"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nowledge of the market available for the particular product is necessary part for the business man to know. Before starting a business he should have information regarding the target customers, income patterns, buying habits and tastes, numbers of competitor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7. LOCATION</a:t>
            </a:r>
            <a:endParaRPr b="0" lang="en-US" sz="4400" spc="-1" strike="noStrike">
              <a:solidFill>
                <a:srgbClr val="000000"/>
              </a:solidFill>
              <a:latin typeface="Arial"/>
            </a:endParaRPr>
          </a:p>
        </p:txBody>
      </p:sp>
      <p:sp>
        <p:nvSpPr>
          <p:cNvPr id="61"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worth considering factor is the location. If it is manufacturing business one must consider the availability of raw material, skilled labor, transportation etc. and if it is a retail business then factors like nearest to market, sale promotional devices come under consid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8</a:t>
            </a:r>
            <a:r>
              <a:rPr b="0" i="1" lang="en-US" sz="3600" spc="-1" strike="noStrike" u="sng">
                <a:solidFill>
                  <a:srgbClr val="000000"/>
                </a:solidFill>
                <a:uFillTx/>
                <a:latin typeface="Arial"/>
              </a:rPr>
              <a:t>. ORGANIZATION AND MANAGEMENT</a:t>
            </a:r>
            <a:endParaRPr b="0" lang="en-US" sz="3600" spc="-1" strike="noStrike">
              <a:solidFill>
                <a:srgbClr val="000000"/>
              </a:solidFill>
              <a:latin typeface="Arial"/>
            </a:endParaRPr>
          </a:p>
        </p:txBody>
      </p:sp>
      <p:sp>
        <p:nvSpPr>
          <p:cNvPr id="63" name=""/>
          <p:cNvSpPr txBox="1"/>
          <p:nvPr/>
        </p:nvSpPr>
        <p:spPr>
          <a:xfrm>
            <a:off x="179280" y="1600200"/>
            <a:ext cx="8856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agerial and organizing capacities must be considered very carefully. Large business has huge complicated managerial problems. So skilled and qualified employer must be h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9. GOVERNMENT POLICIES</a:t>
            </a:r>
            <a:br>
              <a:rPr sz="4400"/>
            </a:br>
            <a:endParaRPr b="0" lang="en-US" sz="4400" spc="-1" strike="noStrike">
              <a:solidFill>
                <a:srgbClr val="000000"/>
              </a:solidFill>
              <a:latin typeface="Arial"/>
            </a:endParaRPr>
          </a:p>
        </p:txBody>
      </p:sp>
      <p:sp>
        <p:nvSpPr>
          <p:cNvPr id="65" name=""/>
          <p:cNvSpPr txBox="1"/>
          <p:nvPr/>
        </p:nvSpPr>
        <p:spPr>
          <a:xfrm>
            <a:off x="250560" y="1600200"/>
            <a:ext cx="87138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ment has formulated some rules and regulations for the particular type of business, to regulate the activities of the business. So the government policies should be considered. After establishment, income, tax, sales tax etc. must also be conside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10. STAFF OF THE OFFICE</a:t>
            </a:r>
            <a:endParaRPr b="0" lang="en-US" sz="4400" spc="-1" strike="noStrike">
              <a:solidFill>
                <a:srgbClr val="000000"/>
              </a:solidFill>
              <a:latin typeface="Arial"/>
            </a:endParaRPr>
          </a:p>
        </p:txBody>
      </p:sp>
      <p:sp>
        <p:nvSpPr>
          <p:cNvPr id="67" name=""/>
          <p:cNvSpPr txBox="1"/>
          <p:nvPr/>
        </p:nvSpPr>
        <p:spPr>
          <a:xfrm>
            <a:off x="457200" y="1600200"/>
            <a:ext cx="86868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siness may require the service of some clerk; salesman etc. special care should be bestowed on engaging the staff. Efficiency should never be scarified for cheapness. The sound course is to make correct salaries in proper propor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11. OFFICE EQUIPMENT</a:t>
            </a:r>
            <a:endParaRPr b="0" lang="en-US" sz="4400" spc="-1" strike="noStrike">
              <a:solidFill>
                <a:srgbClr val="000000"/>
              </a:solidFill>
              <a:latin typeface="Arial"/>
            </a:endParaRPr>
          </a:p>
        </p:txBody>
      </p:sp>
      <p:sp>
        <p:nvSpPr>
          <p:cNvPr id="69" name=""/>
          <p:cNvSpPr txBox="1"/>
          <p:nvPr/>
        </p:nvSpPr>
        <p:spPr>
          <a:xfrm>
            <a:off x="179280" y="1600200"/>
            <a:ext cx="878544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business has to maintain an office. In these days of rapid development, stationery type writers, duplicating machines etc. must be provided, so that the business process are more quick and efficiently carried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Arial"/>
              </a:rPr>
              <a:t>12. BUSINESS ETHICS OR MORAL</a:t>
            </a:r>
            <a:endParaRPr b="0" lang="en-US" sz="4000" spc="-1" strike="noStrike">
              <a:solidFill>
                <a:srgbClr val="000000"/>
              </a:solidFill>
              <a:latin typeface="Arial"/>
            </a:endParaRPr>
          </a:p>
        </p:txBody>
      </p:sp>
      <p:sp>
        <p:nvSpPr>
          <p:cNvPr id="71" name=""/>
          <p:cNvSpPr txBox="1"/>
          <p:nvPr/>
        </p:nvSpPr>
        <p:spPr>
          <a:xfrm>
            <a:off x="179280" y="1600200"/>
            <a:ext cx="88567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ally in business as anywhere else has distinct role to play in the shaping of successful business career. Business ethics is more important because it shapes sound. Economic policy, honest cost accounting sounds credit arran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324000" y="620640"/>
            <a:ext cx="86407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the important consideration for the commencement of new business?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R</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What are the important points a business will consider first before the starting of new business?</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5" name=""/>
          <p:cNvSpPr txBox="1"/>
          <p:nvPr/>
        </p:nvSpPr>
        <p:spPr>
          <a:xfrm>
            <a:off x="0" y="1125000"/>
            <a:ext cx="9144000" cy="5000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as a time when anybody thought of setting up a shop to earn could launch upon the said enterprise with fair expectations of success. But those comfortable days have sunk into the yawning gulf of the time. In modern times of over crowded business, business has become a very risky game and those who are engage in it have to take utmost precautions and care at every step. This is more so at the time of commencement of a new busi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FUNDAMENTAL CONSIDERATION IN STARTING A BUSINESS</a:t>
            </a:r>
            <a:br>
              <a:rPr sz="3200"/>
            </a:br>
            <a:endParaRPr b="0" lang="en-US" sz="32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starting a business a plan and a systematic study should be made of various preliminary considerations upon which depends the success or failure of busi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1.KIND OF BUSINESS</a:t>
            </a:r>
            <a:endParaRPr b="0" lang="en-US" sz="4400" spc="-1" strike="noStrike">
              <a:solidFill>
                <a:srgbClr val="000000"/>
              </a:solidFill>
              <a:latin typeface="Arial"/>
            </a:endParaRPr>
          </a:p>
        </p:txBody>
      </p:sp>
      <p:sp>
        <p:nvSpPr>
          <p:cNvPr id="49" name=""/>
          <p:cNvSpPr txBox="1"/>
          <p:nvPr/>
        </p:nvSpPr>
        <p:spPr>
          <a:xfrm>
            <a:off x="179280" y="1600200"/>
            <a:ext cx="896472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thing which man is extending to enter into a business has to consider is the kind of the business he should take up. There are so many classes and sub classes of business. And to pick up the best and most profitable line out them requires considerable knowledge, experience and for sight. The criteria determining the suitability or otherwise of a business are several. They are profit yielding capacity, the degree of risk involved. The extend of skill and knowledge and finally the personnel taste of a pers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2. FORMS OF BUSINESS ORGANIZATION</a:t>
            </a:r>
            <a:endParaRPr b="0" lang="en-US" sz="3200" spc="-1" strike="noStrike">
              <a:solidFill>
                <a:srgbClr val="000000"/>
              </a:solidFill>
              <a:latin typeface="Arial"/>
            </a:endParaRPr>
          </a:p>
        </p:txBody>
      </p:sp>
      <p:sp>
        <p:nvSpPr>
          <p:cNvPr id="51" name=""/>
          <p:cNvSpPr txBox="1"/>
          <p:nvPr/>
        </p:nvSpPr>
        <p:spPr>
          <a:xfrm>
            <a:off x="178920" y="1600200"/>
            <a:ext cx="87138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he actual business to be launched upon is decided the next logical question coming up for consideration is the form of business establishment is to take. In other words it has to be settled whether is to be one man’s business or partnership or joint stock company. Hence a business should be given a form which is most suited to it from all angle of vi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00"/>
                </a:solidFill>
                <a:uFillTx/>
                <a:latin typeface="Arial"/>
              </a:rPr>
              <a:t>3. ESTIMATION OF PROFITABILITY OF BUSINESS</a:t>
            </a:r>
            <a:endParaRPr b="0" lang="en-US" sz="36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age is to estimate the profitability of the business which the product and service which are going to be sold will g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4. SIZE OF BUSINESS</a:t>
            </a:r>
            <a:endParaRPr b="0" lang="en-US" sz="4400" spc="-1" strike="noStrike">
              <a:solidFill>
                <a:srgbClr val="000000"/>
              </a:solidFill>
              <a:latin typeface="Arial"/>
            </a:endParaRPr>
          </a:p>
        </p:txBody>
      </p:sp>
      <p:sp>
        <p:nvSpPr>
          <p:cNvPr id="55" name=""/>
          <p:cNvSpPr txBox="1"/>
          <p:nvPr/>
        </p:nvSpPr>
        <p:spPr>
          <a:xfrm>
            <a:off x="0" y="1600200"/>
            <a:ext cx="90360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types of business, via, manufacturing, non-manufacturing and services. All the three kinds may be large, medium or small. The size of business depends upon the recourses which a business man is going to invest. So the business man will consider what size of business he should start and how much he should invest so that he can earn profit according to his requirement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u="sng">
                <a:solidFill>
                  <a:srgbClr val="000000"/>
                </a:solidFill>
                <a:uFillTx/>
                <a:latin typeface="Arial"/>
              </a:rPr>
              <a:t>5. FINANCE</a:t>
            </a:r>
            <a:br>
              <a:rPr sz="4400"/>
            </a:b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consideration is very important before starting a business. Unless sufficient funds are not arranges it would not be possible to operate the business. The funds or capital can be arranged by the owner himself or credi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Ch Umair</cp:lastModifiedBy>
  <dcterms:modified xsi:type="dcterms:W3CDTF">2020-03-18T07:10:11Z</dcterms:modified>
  <cp:revision>698</cp:revision>
  <dc:subject/>
  <dc:title>Diapositiva 1</dc:title>
</cp:coreProperties>
</file>